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17339"/>
        <c:axId val="73327066"/>
      </c:barChart>
      <c:catAx>
        <c:axId val="62617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27066"/>
        <c:crosses val="autoZero"/>
        <c:auto val="1"/>
        <c:lblAlgn val="ctr"/>
        <c:lblOffset val="100"/>
        <c:noMultiLvlLbl val="0"/>
      </c:catAx>
      <c:valAx>
        <c:axId val="73327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17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AD6-AB58-4449-B66B-784BF58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3B9-72E8-433E-BDDC-8A58B189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621-BEC2-4D68-B20C-76FA564E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FE6-871A-44E9-832F-76019EA0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68F-A48F-49DB-A898-3EC1ED4F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76B-32B2-48E3-9D14-98B01E94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619-6F7F-4A15-8533-3703E4F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282-F294-4053-AF4D-B7E074B7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514-E9C5-4803-BA63-B128939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A9E-87A9-406F-B8C0-6CF79BA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EB8-4385-40F0-94A3-64C560D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8BB-EA0F-4C47-B2CE-E9F99CE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B982-00E3-499A-85F4-DAD00A407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